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BFF-D142-461F-BB81-66574E92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E70-72A8-42B1-B868-B04AAA8B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69A-2334-42BF-B343-B759B1A0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132-9EA2-4510-B5E7-7E50B8E2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F25F-5E63-477F-B84C-EECC8187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8812-D6FA-414D-A697-F8FBCBA6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26ED-3997-4012-B07C-C6C5F276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06E8-E36F-494E-AD95-F2804779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4C34-0F52-4E7E-8092-A46753F6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08D5-777C-4C1D-940C-4D3089CD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2DCC-9BA2-4EFB-9BEA-5B535C04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2F4-8F8C-4F3D-A1C7-15DD604D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1AA9-7B98-4F2F-80EA-DC1B6F8C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45F3-94B8-4342-A3F0-F85FBD3B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E5F3-A7E2-4355-AD8A-59905653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FB98-A5CB-41AE-8F8D-C7EE70CE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4652-F01F-47E6-9445-9222A4C2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175-7A44-4C73-8CBC-B70F9A68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ED3-5546-4B73-85A8-CB88D705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086-AC05-4AB3-8F51-26553D40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343-270E-4D65-AE0A-759ADD7D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699-009D-4C8A-9F01-E69E838B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9F8-DE4B-4B56-8423-6017C61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BBC-CB66-45A3-B427-0FC727DE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6E44-40FD-40C6-A2F8-04F60FD250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62FF-70E7-4C7F-89BB-E3DEDEF798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mailto:John.Kuteesakwe@gtz.de" TargetMode="External"/><Relationship Id="rId3" Type="http://schemas.openxmlformats.org/officeDocument/2006/relationships/hyperlink" Target="mailto:jkute@yahoo.com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 Stove Rockets Uganda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0968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tion of Renewable Energy and Energy Efficiency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877000"/>
            <a:ext cx="4437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By John Kuteesakw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gtzlogo-standard-rgb-72" descr=""/>
          <p:cNvPicPr/>
          <p:nvPr/>
        </p:nvPicPr>
        <p:blipFill>
          <a:blip r:embed="rId1"/>
          <a:srcRect l="0" t="0" r="0" b="18549"/>
          <a:stretch/>
        </p:blipFill>
        <p:spPr>
          <a:xfrm>
            <a:off x="171360" y="71280"/>
            <a:ext cx="234324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cc"/>
                </a:solidFill>
                <a:latin typeface="Tahoma"/>
              </a:rPr>
              <a:t>The Stove Dissemination Strategy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ssemination strategy is as critical as the stove des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rategy that is discordant with the socio-economic framework achieves one result: missing the target group effectiv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ditional commercialization can make proper sense in the urban communities, where all livelihood items have to be purcha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ever, in rural poor communities the mode of commercialization needs mod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asonable stove price in the urban community may be a prohibitive price in the r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 GTZ-Uganda uses two parallel strategies: Exclusive commercialization and semi-commercializ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clusive commercial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TZ-Uganda supports a pure commercialization of stoves by supporting the private dealers. The strategy invol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ication of the authentic private stove deal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ring training in the stove design and produ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ing the marketing campaign and operating t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ervision and quality contro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this strategy is appropriate for the upper social economic class consumers, 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igher income households, especially in the urban center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ocial institutions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mercial enterpri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88720"/>
            <a:ext cx="8534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Metal Rocket Household Sto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933480"/>
            <a:ext cx="792468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97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Rocket Institutional Stove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56240" y="1143000"/>
            <a:ext cx="429876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4176720" cy="5262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6321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obile ty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1360" y="640080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Fixed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27622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t what about the poor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ctually constitute the majority of the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the ones most severely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7680" y="57240"/>
            <a:ext cx="889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e7960"/>
                </a:solidFill>
                <a:latin typeface="Tahoma"/>
              </a:rPr>
              <a:t>Typical Poor Household in Ugand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5360" y="743040"/>
            <a:ext cx="8286840" cy="61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mi-commercialized Approa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n adaptive strategy for the dissemination of a mud rocket st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ove production process is demystified, decentralized and local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erty does not hinder afford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ERIA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7240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O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24386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39152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RIBU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2286000"/>
            <a:ext cx="1066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Tahoma"/>
              </a:rPr>
              <a:t>-che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Tahoma"/>
              </a:rPr>
              <a:t>-locally avail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48720" y="2286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Tahoma"/>
              </a:rPr>
              <a:t>The very basic tools for surviv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45720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Tahoma"/>
              </a:rPr>
              <a:t>Simplified and multipli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72284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Tahoma"/>
              </a:rPr>
              <a:t>Production at the consumer loc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eration of the Semi-commercialized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duction is a joint venture between the producer and the consu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nsumer is not a passive recipient but an active production compa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duction tasks are shared between the two parti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55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family provides and prepares all the construction materials and pays a small labor fee to the stove build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55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builder constructs the stove with the famil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55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family does the finish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semination is implemented by N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-533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67680" cy="6800760"/>
          </a:xfrm>
          <a:prstGeom prst="rect">
            <a:avLst/>
          </a:prstGeom>
          <a:ln w="0">
            <a:noFill/>
          </a:ln>
        </p:spPr>
      </p:pic>
      <p:sp>
        <p:nvSpPr>
          <p:cNvPr id="15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0680" y="-36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ining Pyram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7200"/>
            <a:ext cx="9144000" cy="60199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85800" y="4419720"/>
            <a:ext cx="7848720" cy="1981080"/>
            <a:chOff x="685800" y="4419720"/>
            <a:chExt cx="7848720" cy="1981080"/>
          </a:xfrm>
        </p:grpSpPr>
        <p:sp>
          <p:nvSpPr>
            <p:cNvPr id="159" name=""/>
            <p:cNvSpPr/>
            <p:nvPr/>
          </p:nvSpPr>
          <p:spPr>
            <a:xfrm>
              <a:off x="685800" y="5638680"/>
              <a:ext cx="784872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Community Stove Builders/ Artisa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5680" y="4419720"/>
              <a:ext cx="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9720" y="4419720"/>
              <a:ext cx="2590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cc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  <a:ea typeface="Times New Roman"/>
                </a:rPr>
                <a:t>Select traine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cc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  <a:ea typeface="Times New Roman"/>
                </a:rPr>
                <a:t>Tra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cc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  <a:ea typeface="Times New Roman"/>
                </a:rPr>
                <a:t>Monito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71800" y="1752480"/>
            <a:ext cx="3276720" cy="1524240"/>
            <a:chOff x="2971800" y="1752480"/>
            <a:chExt cx="3276720" cy="1524240"/>
          </a:xfrm>
        </p:grpSpPr>
        <p:sp>
          <p:nvSpPr>
            <p:cNvPr id="163" name=""/>
            <p:cNvSpPr/>
            <p:nvPr/>
          </p:nvSpPr>
          <p:spPr>
            <a:xfrm>
              <a:off x="2971800" y="2590920"/>
              <a:ext cx="3276720" cy="685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NGO Workfor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(District coordinators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1752480"/>
              <a:ext cx="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5680" y="18288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  <a:ea typeface="Times New Roman"/>
                </a:rPr>
                <a:t>Identify &amp; train NG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114800" y="1066680"/>
            <a:ext cx="91440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GTZ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PRE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1752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09680" y="3276720"/>
            <a:ext cx="4876920" cy="1110600"/>
            <a:chOff x="2209680" y="3276720"/>
            <a:chExt cx="4876920" cy="1110600"/>
          </a:xfrm>
        </p:grpSpPr>
        <p:sp>
          <p:nvSpPr>
            <p:cNvPr id="169" name=""/>
            <p:cNvSpPr/>
            <p:nvPr/>
          </p:nvSpPr>
          <p:spPr>
            <a:xfrm>
              <a:off x="2209680" y="3701880"/>
              <a:ext cx="4876920" cy="685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Subcounty Coordinato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5680" y="3276720"/>
              <a:ext cx="0" cy="46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332064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  <a:ea typeface="Times New Roman"/>
                </a:rPr>
                <a:t>Select &amp; Tra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e7960"/>
                </a:solidFill>
                <a:latin typeface="Arial"/>
              </a:rPr>
              <a:t>ENERGY SITUATION IN UGA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5257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mass represents 93% of the national energy consump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7% of the households use biomass for coo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1995, the biomass demand had already exceeded the sustainable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09680" y="1295280"/>
          <a:ext cx="434340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95280"/>
                    <a:ext cx="43434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Motivation, Mobilization, Marketing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52560" y="114300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500,000 households have received the mud rocket stoves disseminated by 7 NGOs in 4 ye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stove producers are getting significant incomes from the stove as they move to different areas and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ime saved for wood collection and cooking, IAP reduction are recognised by users (independent studies already do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01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anks for Listening!</a:t>
            </a:r>
            <a:r>
              <a:rPr b="1" lang="en-US" sz="4400" spc="-1" strike="noStrike">
                <a:solidFill>
                  <a:srgbClr val="be796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4730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320" y="5589720"/>
            <a:ext cx="4076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Kuteesakw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.O.Box 10346 Kampala (Ugan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b: +256-77-27641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57880" y="5494320"/>
            <a:ext cx="46861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John.Kuteesakwe@gtz.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jkute@yahoo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gtzlogo-standard-rgb-72" descr=""/>
          <p:cNvPicPr/>
          <p:nvPr/>
        </p:nvPicPr>
        <p:blipFill>
          <a:blip r:embed="rId4"/>
          <a:srcRect l="0" t="0" r="0" b="18549"/>
          <a:stretch/>
        </p:blipFill>
        <p:spPr>
          <a:xfrm>
            <a:off x="2438280" y="5522760"/>
            <a:ext cx="609840" cy="4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-46080"/>
          <a:ext cx="9144000" cy="690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080"/>
                    <a:ext cx="9144000" cy="69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00"/>
                </a:solidFill>
                <a:latin typeface="Times New Roman"/>
              </a:rPr>
              <a:t>Why does the Energy Advisory Project love us so much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876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868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3971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ost efficient beast of Burd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be7960"/>
                </a:solidFill>
                <a:latin typeface="Tahoma"/>
              </a:rPr>
              <a:t>Driving factors for Biomass Cris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inefficient cooking devic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– e.g. the 3 stone f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population growth (3.4%) 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ore people … less biom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erty 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retains population on biomass …can’t afford alterna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09680" y="2970360"/>
            <a:ext cx="51818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80640" y="6091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tigation Concep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42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to reduce biomass demand involve the dissemination of efficient st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the impact of such efforts depends on the magnitude of interven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inor scale intervention cannot offset a major scale crisis of biomass energy: the problem grows faster than th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inarily, long “pilot” projects have been the most fashionable, yet the practical problems don’t ‘pilot’ for long: they tend to scale up rapid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66680" y="5791320"/>
            <a:ext cx="2057040" cy="1002240"/>
            <a:chOff x="1066680" y="5791320"/>
            <a:chExt cx="2057040" cy="10022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409400" y="5791320"/>
              <a:ext cx="145692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066680" y="6425280"/>
              <a:ext cx="20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The probl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010280" y="5486400"/>
            <a:ext cx="1752840" cy="1314360"/>
            <a:chOff x="7010280" y="5486400"/>
            <a:chExt cx="1752840" cy="131436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7010280" y="5486400"/>
              <a:ext cx="175284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115760" y="6415200"/>
              <a:ext cx="141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ahoma"/>
                </a:rPr>
                <a:t>The solu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39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aling up is the valid 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566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ll-scale energy problem can only be neutralized by scaling up the energy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biomass, it involves the scaling up of improved stoves to cover the bigger proportions of the vulnerable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hieve this, two considerations are critical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gn of the technology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gn of the dissemination strate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3:04:38Z</dcterms:created>
  <dc:creator>GTZ-EAP</dc:creator>
  <dc:description/>
  <dc:language>en-US</dc:language>
  <cp:lastModifiedBy>Jan-Hendrik Soehlemann</cp:lastModifiedBy>
  <dcterms:modified xsi:type="dcterms:W3CDTF">2009-01-08T09:02:34Z</dcterms:modified>
  <cp:revision>176</cp:revision>
  <dc:subject/>
  <dc:title>Uganda’s Scaling up Approach </dc:title>
</cp:coreProperties>
</file>